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1B2B-D4CA-4320-A4FF-D1956CFB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C0A8-CD10-4D87-BA25-C5888093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E3F5-5B47-4233-8BE1-82C85FC7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44C0-FB7A-43A0-A749-3B9718C5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988C-B130-4CB9-9100-C4E677D9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EA91-7025-4122-9C4A-2B51A9E5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CB2C-7A95-436A-B154-6930E49D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5F66-CBF2-481A-9F0C-4856F1C1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25C9-0E08-45D8-AEC0-93EC9C63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5BC3-4F3B-4371-A73A-C57AEE69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2653-23E8-474D-904F-F0315D81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6C4B-A88A-48BD-989B-4B8FED3C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2746-BA2F-4F36-BE80-8F181B6A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7BFE-A7CC-4E94-B9DC-051E15FA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02B3-779F-43A1-931A-CF19F262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8E1C-F33B-4E3F-867F-3C2A16B3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DAB7-A283-49DE-824C-9B64EBAD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D9AE-B0C4-4E4A-89F6-4C17C65D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14C1-70BD-42AE-B768-8012BE7A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66AE-3F3F-4F74-B9A7-31AA780B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1984-3648-4561-91BC-C21D8BC7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9A7E-70B6-4D4B-850B-5AB8289E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E90-9AFB-4BB9-8B36-BF9B4BEC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AA30-11B5-41F0-9024-442C6646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9146-74A9-422E-BC77-09F35FC7C78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818A-9DB9-4845-BF3E-03BAA94C35B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cc"/>
                </a:solidFill>
                <a:latin typeface="Tahoma"/>
              </a:rPr>
              <a:t>Adunăm şi scădem până la 30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Tahoma"/>
              </a:rPr>
              <a:t>Cum se numesc numerele care se adună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Numerele care se adună se numesc…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Rezultatul adunării se numeşte……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Descăzutul este numărul din care…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Numărul care se scade se numeşte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Diferenţa  este rezultatul……………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Tahoma"/>
              </a:rPr>
              <a:t>Calculează adunările şi fă proba în două moduri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15 + 8 = 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17 + 6 = 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9 + 21 = 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r. cu adunare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r. cu scăd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Îmi aleg o meserie </a:t>
            </a:r>
            <a:r>
              <a:rPr b="0" lang="ro-RO" sz="4400" spc="-1" strike="noStrike">
                <a:solidFill>
                  <a:srgbClr val="ffffcc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259160" cy="3546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4105080" cy="2525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4360" y="5373720"/>
            <a:ext cx="29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Croit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522936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Cofet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259160" cy="3112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600720" cy="3171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971640" y="5157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Vânză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24360" y="515772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Tâmp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Tahoma"/>
              </a:rPr>
              <a:t>Cum mă ajută matematica să fac această meserie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87280" y="1600200"/>
            <a:ext cx="6769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11:59:06Z</dcterms:created>
  <dc:creator> </dc:creator>
  <dc:description/>
  <dc:language>en-US</dc:language>
  <cp:lastModifiedBy> </cp:lastModifiedBy>
  <dcterms:modified xsi:type="dcterms:W3CDTF">2010-09-12T12:22:38Z</dcterms:modified>
  <cp:revision>2</cp:revision>
  <dc:subject/>
  <dc:title>Adunăm şi scădem până la 30</dc:title>
</cp:coreProperties>
</file>